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3B20-F0C4-43F2-8D93-62B4AC05B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70F8-3804-4FC5-AD01-CB3E55567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6148-DFF6-4AD0-8578-BF83DED6A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EBC4-B2CA-4A01-BA12-CDD7B4435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E191-CC06-40FD-99ED-81DAB2F5B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37DC-93DC-453E-8013-6F40F3D15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FA6C-6949-469F-8DB0-62A71FFAF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3135-2612-489A-B87A-92A7A6D27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A724-0425-446A-9709-52855AF54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E52F-7E21-4140-B046-0C3B8C271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9D43-A989-4AA3-9917-77E8FA8ED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9C35-2632-4EEF-9B80-584DB5DE4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5C65641-A3B7-4130-86B2-C72CD51352B0}" type="slidenum"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2920" cy="595080"/>
            <a:chOff x="2013120" y="1668600"/>
            <a:chExt cx="502920" cy="59508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4120" y="220968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8480"/>
            <a:ext cx="12956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3280" cy="595080"/>
            <a:chOff x="6046920" y="1668600"/>
            <a:chExt cx="503280" cy="59508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8280" y="220968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4600"/>
            <a:ext cx="4064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1st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21120000">
            <a:off x="291600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492360" y="2274480"/>
            <a:ext cx="93528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427640" y="2274480"/>
            <a:ext cx="1440" cy="1443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2nd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427640" y="1843200"/>
            <a:ext cx="504720" cy="4348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3rd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2701800" y="3933720"/>
            <a:ext cx="2313000" cy="1725840"/>
            <a:chOff x="2701800" y="3933720"/>
            <a:chExt cx="2313000" cy="1725840"/>
          </a:xfrm>
        </p:grpSpPr>
        <p:sp>
          <p:nvSpPr>
            <p:cNvPr id="84" name=""/>
            <p:cNvSpPr/>
            <p:nvPr/>
          </p:nvSpPr>
          <p:spPr>
            <a:xfrm flipV="1">
              <a:off x="3522600" y="4035600"/>
              <a:ext cx="1800" cy="9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2600" y="5011560"/>
              <a:ext cx="12175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701800" y="5291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2822040" y="5011560"/>
              <a:ext cx="70020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719600" y="4908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90068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599000" y="2276640"/>
            <a:ext cx="2016000" cy="1296720"/>
            <a:chOff x="4599000" y="2276640"/>
            <a:chExt cx="2016000" cy="1296720"/>
          </a:xfrm>
        </p:grpSpPr>
        <p:sp>
          <p:nvSpPr>
            <p:cNvPr id="98" name=""/>
            <p:cNvSpPr/>
            <p:nvPr/>
          </p:nvSpPr>
          <p:spPr>
            <a:xfrm>
              <a:off x="4599000" y="2276640"/>
              <a:ext cx="2016000" cy="129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99000" y="2924280"/>
              <a:ext cx="20160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607000" y="2276640"/>
              <a:ext cx="180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270080" y="3933720"/>
            <a:ext cx="2313000" cy="1725840"/>
            <a:chOff x="1270080" y="3933720"/>
            <a:chExt cx="2313000" cy="1725840"/>
          </a:xfrm>
        </p:grpSpPr>
        <p:sp>
          <p:nvSpPr>
            <p:cNvPr id="109" name=""/>
            <p:cNvSpPr/>
            <p:nvPr/>
          </p:nvSpPr>
          <p:spPr>
            <a:xfrm flipV="1">
              <a:off x="2089080" y="4035600"/>
              <a:ext cx="1800" cy="9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089080" y="5011560"/>
              <a:ext cx="12175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7000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70080" y="5291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1390320" y="5011560"/>
              <a:ext cx="70020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287880" y="4908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468600" y="2119320"/>
            <a:ext cx="183060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166920" y="2276640"/>
            <a:ext cx="2016360" cy="1296720"/>
            <a:chOff x="3166920" y="2276640"/>
            <a:chExt cx="2016360" cy="1296720"/>
          </a:xfrm>
        </p:grpSpPr>
        <p:sp>
          <p:nvSpPr>
            <p:cNvPr id="123" name=""/>
            <p:cNvSpPr/>
            <p:nvPr/>
          </p:nvSpPr>
          <p:spPr>
            <a:xfrm>
              <a:off x="3166920" y="2276640"/>
              <a:ext cx="2016360" cy="129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166920" y="2924280"/>
              <a:ext cx="20163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75280" y="2276640"/>
              <a:ext cx="144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127080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645804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6156360" y="2276640"/>
            <a:ext cx="2016000" cy="1296720"/>
            <a:chOff x="6156360" y="2276640"/>
            <a:chExt cx="2016000" cy="1296720"/>
          </a:xfrm>
        </p:grpSpPr>
        <p:sp>
          <p:nvSpPr>
            <p:cNvPr id="139" name=""/>
            <p:cNvSpPr/>
            <p:nvPr/>
          </p:nvSpPr>
          <p:spPr>
            <a:xfrm>
              <a:off x="6156360" y="2276640"/>
              <a:ext cx="2016000" cy="129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156360" y="2924280"/>
              <a:ext cx="20160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164360" y="2276640"/>
              <a:ext cx="144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21116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567120" y="3529080"/>
            <a:ext cx="66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4929120" y="4176720"/>
            <a:ext cx="44784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cp:revision>0</cp:revision>
  <dc:subject/>
  <dc:title>Diapositiva 1</dc:title>
</cp:coreProperties>
</file>