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77AB-601F-4FAD-B86F-A377ACF3D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C662-18F6-47F7-BA03-2C69C3EE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0836-DB2E-404B-81C5-33A8F5A4B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B862-1230-49F5-B4C0-DF3BC778A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D329-9D82-46FF-B3E4-3581FB68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F2ED-EBEC-4482-97FA-35BA3786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E6F1-91CF-46CC-9008-EAD412E7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A343-F3F5-405D-81D9-98C2F3EF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674E-04C7-4A47-A412-10D86AF1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5D15-9E09-48B2-992D-FC68E312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7846-C446-443A-A359-E5E52D24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5356-EC6D-433A-9EFA-77E17BA5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8DF130-8428-4925-BA63-37B9A3CA8ECE}" type="slidenum"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2920" cy="595080"/>
            <a:chOff x="2013120" y="1668600"/>
            <a:chExt cx="502920" cy="5950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412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3280" cy="595080"/>
            <a:chOff x="6046920" y="1668600"/>
            <a:chExt cx="503280" cy="5950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828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1st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2n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3r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701800" y="3933720"/>
            <a:ext cx="2313000" cy="1725840"/>
            <a:chOff x="2701800" y="3933720"/>
            <a:chExt cx="2313000" cy="1725840"/>
          </a:xfrm>
        </p:grpSpPr>
        <p:sp>
          <p:nvSpPr>
            <p:cNvPr id="84" name=""/>
            <p:cNvSpPr/>
            <p:nvPr/>
          </p:nvSpPr>
          <p:spPr>
            <a:xfrm flipV="1">
              <a:off x="352260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260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0180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82204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1960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99000" y="2276640"/>
            <a:ext cx="2016000" cy="1296720"/>
            <a:chOff x="4599000" y="2276640"/>
            <a:chExt cx="2016000" cy="1296720"/>
          </a:xfrm>
        </p:grpSpPr>
        <p:sp>
          <p:nvSpPr>
            <p:cNvPr id="98" name=""/>
            <p:cNvSpPr/>
            <p:nvPr/>
          </p:nvSpPr>
          <p:spPr>
            <a:xfrm>
              <a:off x="459900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9900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07000" y="2276640"/>
              <a:ext cx="180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70080" y="3933720"/>
            <a:ext cx="2313000" cy="1725840"/>
            <a:chOff x="1270080" y="3933720"/>
            <a:chExt cx="2313000" cy="1725840"/>
          </a:xfrm>
        </p:grpSpPr>
        <p:sp>
          <p:nvSpPr>
            <p:cNvPr id="109" name=""/>
            <p:cNvSpPr/>
            <p:nvPr/>
          </p:nvSpPr>
          <p:spPr>
            <a:xfrm flipV="1">
              <a:off x="208908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8908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7000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7008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39032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8788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66920" y="2276640"/>
            <a:ext cx="2016360" cy="1296720"/>
            <a:chOff x="3166920" y="2276640"/>
            <a:chExt cx="2016360" cy="1296720"/>
          </a:xfrm>
        </p:grpSpPr>
        <p:sp>
          <p:nvSpPr>
            <p:cNvPr id="123" name=""/>
            <p:cNvSpPr/>
            <p:nvPr/>
          </p:nvSpPr>
          <p:spPr>
            <a:xfrm>
              <a:off x="3166920" y="2276640"/>
              <a:ext cx="201636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66920" y="2924280"/>
              <a:ext cx="20163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56360" y="2276640"/>
            <a:ext cx="2016000" cy="1296720"/>
            <a:chOff x="6156360" y="2276640"/>
            <a:chExt cx="2016000" cy="1296720"/>
          </a:xfrm>
        </p:grpSpPr>
        <p:sp>
          <p:nvSpPr>
            <p:cNvPr id="139" name=""/>
            <p:cNvSpPr/>
            <p:nvPr/>
          </p:nvSpPr>
          <p:spPr>
            <a:xfrm>
              <a:off x="615636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6436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cp:revision>0</cp:revision>
  <dc:subject/>
  <dc:title>Diapositiva 1</dc:title>
</cp:coreProperties>
</file>