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63D5-B896-4E3E-BB52-F08C0E8EB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A303-C7EE-4A44-86D2-8EB33B247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A035-C120-40EC-A753-555A81535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DB18-0F91-4A1C-A584-5A936EC83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8418-FD82-4EBC-BE4C-C866A2FCB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CEC8-9531-4518-98C0-D84E22F34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80F6-4AD8-4D62-9ED7-83D768DE9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6FEB-1266-4E4B-B83F-515DC989F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5BC0-3884-40F4-BA8E-E93A578E3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12E0-89D2-4B25-A746-54689717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06C3-D377-401F-994D-D9DACC27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392B-12DA-46F1-BBF1-D4E3D09A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23DC6B-7442-43B0-8800-4E282BD70D6D}" type="slidenum"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2920" cy="595080"/>
            <a:chOff x="2013120" y="1668600"/>
            <a:chExt cx="502920" cy="5950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4120" y="220968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3280" cy="595080"/>
            <a:chOff x="6046920" y="1668600"/>
            <a:chExt cx="503280" cy="5950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8280" y="220968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1st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2nd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3rd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701800" y="3933720"/>
            <a:ext cx="2313000" cy="1725840"/>
            <a:chOff x="2701800" y="3933720"/>
            <a:chExt cx="2313000" cy="1725840"/>
          </a:xfrm>
        </p:grpSpPr>
        <p:sp>
          <p:nvSpPr>
            <p:cNvPr id="84" name=""/>
            <p:cNvSpPr/>
            <p:nvPr/>
          </p:nvSpPr>
          <p:spPr>
            <a:xfrm flipV="1">
              <a:off x="3522600" y="4035600"/>
              <a:ext cx="1800" cy="9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2600" y="5011560"/>
              <a:ext cx="121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01800" y="529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2822040" y="5011560"/>
              <a:ext cx="70020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719600" y="4908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599000" y="2276640"/>
            <a:ext cx="2016000" cy="1296720"/>
            <a:chOff x="4599000" y="2276640"/>
            <a:chExt cx="2016000" cy="1296720"/>
          </a:xfrm>
        </p:grpSpPr>
        <p:sp>
          <p:nvSpPr>
            <p:cNvPr id="98" name=""/>
            <p:cNvSpPr/>
            <p:nvPr/>
          </p:nvSpPr>
          <p:spPr>
            <a:xfrm>
              <a:off x="4599000" y="2276640"/>
              <a:ext cx="201600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99000" y="2924280"/>
              <a:ext cx="20160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607000" y="2276640"/>
              <a:ext cx="180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70080" y="3933720"/>
            <a:ext cx="2313000" cy="1725840"/>
            <a:chOff x="1270080" y="3933720"/>
            <a:chExt cx="2313000" cy="1725840"/>
          </a:xfrm>
        </p:grpSpPr>
        <p:sp>
          <p:nvSpPr>
            <p:cNvPr id="109" name=""/>
            <p:cNvSpPr/>
            <p:nvPr/>
          </p:nvSpPr>
          <p:spPr>
            <a:xfrm flipV="1">
              <a:off x="2089080" y="4035600"/>
              <a:ext cx="1800" cy="9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89080" y="5011560"/>
              <a:ext cx="121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7000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70080" y="529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1390320" y="5011560"/>
              <a:ext cx="70020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87880" y="4908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166920" y="2276640"/>
            <a:ext cx="2016360" cy="1296720"/>
            <a:chOff x="3166920" y="2276640"/>
            <a:chExt cx="2016360" cy="1296720"/>
          </a:xfrm>
        </p:grpSpPr>
        <p:sp>
          <p:nvSpPr>
            <p:cNvPr id="123" name=""/>
            <p:cNvSpPr/>
            <p:nvPr/>
          </p:nvSpPr>
          <p:spPr>
            <a:xfrm>
              <a:off x="3166920" y="2276640"/>
              <a:ext cx="201636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166920" y="2924280"/>
              <a:ext cx="20163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75280" y="2276640"/>
              <a:ext cx="144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156360" y="2276640"/>
            <a:ext cx="2016000" cy="1296720"/>
            <a:chOff x="6156360" y="2276640"/>
            <a:chExt cx="2016000" cy="1296720"/>
          </a:xfrm>
        </p:grpSpPr>
        <p:sp>
          <p:nvSpPr>
            <p:cNvPr id="139" name=""/>
            <p:cNvSpPr/>
            <p:nvPr/>
          </p:nvSpPr>
          <p:spPr>
            <a:xfrm>
              <a:off x="6156360" y="2276640"/>
              <a:ext cx="201600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156360" y="2924280"/>
              <a:ext cx="20160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164360" y="2276640"/>
              <a:ext cx="144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cp:revision>0</cp:revision>
  <dc:subject/>
  <dc:title>Diapositiva 1</dc:title>
</cp:coreProperties>
</file>