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8C7CD-B74D-45D2-B994-A92252097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5E382-F3A3-40FF-80CA-FAABA844B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BD181-2363-435D-92D3-93D10D1D7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8EF0B-F2AF-4377-BCC5-0A55327BA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26680-6BC3-449B-A2C7-5C8FBEBBB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270F8-0C2B-4865-AC0A-A17E6D411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89E49-6047-4139-9018-84AAB1615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B6AB0-66BA-481E-80F2-6EE4A42FB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23274-E4BD-483B-8127-EB32A75D7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39579-4BF6-4635-9748-C8FDBA916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F1BBB-67B9-45FE-8E2A-144F7EE09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C8452-4F95-4C17-9078-5AD8F1E73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  <a:ea typeface="DejaVuSan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DejaVu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  <a:ea typeface="DejaVuSan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DejaVu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  <a:ea typeface="DejaVu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B23EAB2-2E76-4B26-8835-BD06CB3A8321}" type="slidenum">
              <a:rPr b="0" lang="en-GB" sz="1400" spc="-1" strike="noStrike">
                <a:solidFill>
                  <a:srgbClr val="000000"/>
                </a:solidFill>
                <a:latin typeface="Arial"/>
                <a:ea typeface="DejaVu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5560"/>
            <a:ext cx="1800" cy="2163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700280"/>
            <a:ext cx="1800" cy="65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2920" cy="595080"/>
            <a:chOff x="2013120" y="1668600"/>
            <a:chExt cx="502920" cy="59508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4120" y="220968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5560"/>
            <a:ext cx="1800" cy="2163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8480"/>
            <a:ext cx="1295640" cy="50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700280"/>
            <a:ext cx="1800" cy="65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3280" cy="595080"/>
            <a:chOff x="6046920" y="1668600"/>
            <a:chExt cx="503280" cy="59508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8280" y="220968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4600"/>
            <a:ext cx="406440" cy="357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 flipV="1">
            <a:off x="3492360" y="1050480"/>
            <a:ext cx="1800" cy="2019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2049120" y="3068640"/>
            <a:ext cx="144468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(1st)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rot="21120000">
            <a:off x="291600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492360" y="2274480"/>
            <a:ext cx="935280" cy="795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4427640" y="2274480"/>
            <a:ext cx="1440" cy="144324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(2nd)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4427640" y="1843200"/>
            <a:ext cx="504720" cy="43488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(3rd)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2701800" y="3933720"/>
            <a:ext cx="2313000" cy="1725840"/>
            <a:chOff x="2701800" y="3933720"/>
            <a:chExt cx="2313000" cy="1725840"/>
          </a:xfrm>
        </p:grpSpPr>
        <p:sp>
          <p:nvSpPr>
            <p:cNvPr id="84" name=""/>
            <p:cNvSpPr/>
            <p:nvPr/>
          </p:nvSpPr>
          <p:spPr>
            <a:xfrm flipV="1">
              <a:off x="3522600" y="4035600"/>
              <a:ext cx="1800" cy="977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2600" y="5011560"/>
              <a:ext cx="121752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701800" y="52912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>
              <a:off x="2822040" y="5011560"/>
              <a:ext cx="70020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719600" y="49086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900680" y="2119320"/>
            <a:ext cx="1830240" cy="1309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599000" y="2276640"/>
            <a:ext cx="2016000" cy="1296720"/>
            <a:chOff x="4599000" y="2276640"/>
            <a:chExt cx="2016000" cy="1296720"/>
          </a:xfrm>
        </p:grpSpPr>
        <p:sp>
          <p:nvSpPr>
            <p:cNvPr id="98" name=""/>
            <p:cNvSpPr/>
            <p:nvPr/>
          </p:nvSpPr>
          <p:spPr>
            <a:xfrm>
              <a:off x="4599000" y="2276640"/>
              <a:ext cx="2016000" cy="1296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599000" y="2924280"/>
              <a:ext cx="201600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607000" y="2276640"/>
              <a:ext cx="1800" cy="12967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1270080" y="3933720"/>
            <a:ext cx="2313000" cy="1725840"/>
            <a:chOff x="1270080" y="3933720"/>
            <a:chExt cx="2313000" cy="1725840"/>
          </a:xfrm>
        </p:grpSpPr>
        <p:sp>
          <p:nvSpPr>
            <p:cNvPr id="109" name=""/>
            <p:cNvSpPr/>
            <p:nvPr/>
          </p:nvSpPr>
          <p:spPr>
            <a:xfrm flipV="1">
              <a:off x="2089080" y="4035600"/>
              <a:ext cx="1800" cy="977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089080" y="5011560"/>
              <a:ext cx="121752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07000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270080" y="52912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1390320" y="5011560"/>
              <a:ext cx="70020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287880" y="49086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3468600" y="2119320"/>
            <a:ext cx="1830600" cy="1309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3166920" y="2276640"/>
            <a:ext cx="2016360" cy="1296720"/>
            <a:chOff x="3166920" y="2276640"/>
            <a:chExt cx="2016360" cy="1296720"/>
          </a:xfrm>
        </p:grpSpPr>
        <p:sp>
          <p:nvSpPr>
            <p:cNvPr id="123" name=""/>
            <p:cNvSpPr/>
            <p:nvPr/>
          </p:nvSpPr>
          <p:spPr>
            <a:xfrm>
              <a:off x="3166920" y="2276640"/>
              <a:ext cx="2016360" cy="1296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166920" y="2924280"/>
              <a:ext cx="20163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175280" y="2276640"/>
              <a:ext cx="1440" cy="12967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127080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6458040" y="2119320"/>
            <a:ext cx="1830240" cy="1309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6156360" y="2276640"/>
            <a:ext cx="2016000" cy="1296720"/>
            <a:chOff x="6156360" y="2276640"/>
            <a:chExt cx="2016000" cy="1296720"/>
          </a:xfrm>
        </p:grpSpPr>
        <p:sp>
          <p:nvSpPr>
            <p:cNvPr id="139" name=""/>
            <p:cNvSpPr/>
            <p:nvPr/>
          </p:nvSpPr>
          <p:spPr>
            <a:xfrm>
              <a:off x="6156360" y="2276640"/>
              <a:ext cx="2016000" cy="1296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156360" y="2924280"/>
              <a:ext cx="201600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164360" y="2276640"/>
              <a:ext cx="1440" cy="12967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21116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567120" y="3529080"/>
            <a:ext cx="663480" cy="61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 flipV="1">
            <a:off x="4929120" y="4176720"/>
            <a:ext cx="44784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cp:revision>0</cp:revision>
  <dc:subject/>
  <dc:title>Diapositiva 1</dc:title>
</cp:coreProperties>
</file>