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718188"/>
        <c:axId val="60443774"/>
      </c:barChart>
      <c:catAx>
        <c:axId val="957181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443774"/>
        <c:crosses val="autoZero"/>
        <c:auto val="1"/>
        <c:lblAlgn val="ctr"/>
        <c:lblOffset val="100"/>
        <c:noMultiLvlLbl val="0"/>
      </c:catAx>
      <c:valAx>
        <c:axId val="604437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7181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C1C7-CC93-4A48-9C11-0905A9925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3972-8837-4533-9720-52D466184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31B8-A730-4602-A906-FAD514D32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DB67-5680-4495-AE90-171760237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6D73-3FE0-46F6-A972-00522C400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359A-9AD8-4314-B00A-F2A2896AD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FEE4-57F5-45CE-810F-39B9B5D77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3D77-594D-4326-B021-3F84AD2D0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5A02-ECBA-4DE8-8710-3BB956B3C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D076-76AF-4C0A-8469-578E6D2B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354E-EB3F-4F38-9B25-81726495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DAA3-0CBB-41A1-9022-8EC0537B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A4C0CF-5A6B-4564-82D6-66C64254823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