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260841"/>
        <c:axId val="53685996"/>
      </c:barChart>
      <c:catAx>
        <c:axId val="482608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685996"/>
        <c:crosses val="autoZero"/>
        <c:auto val="1"/>
        <c:lblAlgn val="ctr"/>
        <c:lblOffset val="100"/>
        <c:noMultiLvlLbl val="0"/>
      </c:catAx>
      <c:valAx>
        <c:axId val="53685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608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2FEA-CA89-482B-AAA2-855A16897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D7D7-F104-4C2F-ACD6-8B6EE1AC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03C0-58E7-401E-8930-584BA12B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CD6B-C0DB-4F5E-9B8C-79ABC19F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F68E-A2DA-41BE-A799-C9CDD313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10C6-0BCC-49CC-8E21-75E503D7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8208-558A-4152-8BB7-26EA1DEB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1F16-78B7-496B-84AC-94CD6AC0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3296-C4C5-485A-8F5E-520AEE5A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DA6B-C695-4B96-A8D6-45E3E164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2701-0508-4828-B9A3-5556C847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6AB6-1539-4023-AB45-3D950693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3C74A-C534-40E2-93C0-B2583F055F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