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027642"/>
        <c:axId val="37130304"/>
      </c:barChart>
      <c:catAx>
        <c:axId val="370276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130304"/>
        <c:crosses val="autoZero"/>
        <c:auto val="1"/>
        <c:lblAlgn val="ctr"/>
        <c:lblOffset val="100"/>
        <c:noMultiLvlLbl val="0"/>
      </c:catAx>
      <c:valAx>
        <c:axId val="371303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0276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E0C2-AF37-4898-8007-40082D6AB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0251-2D4E-4E62-8A6C-FB7723E20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CF3F-8C59-4155-B0E7-CDFE65373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1142-DFBE-46EC-8862-F7B7D0D78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69DF-C005-446C-9C40-42E438F9A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030A-0C91-4145-8A18-9610C259B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0F08-8F32-4463-9095-15BF5CA61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DB75-91BE-4908-B499-5D8DA37DC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6593-82BC-496B-B633-3656ECDAD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5F41-FB18-49C3-9A9D-61A66849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58E5-8D89-4756-A40C-98A4FDA6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7EE6-49B0-40CB-968C-F48CA627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E61911-88A7-4412-8B99-8CD04E44201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