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764901"/>
        <c:axId val="96688413"/>
      </c:barChart>
      <c:catAx>
        <c:axId val="867649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88413"/>
        <c:crosses val="autoZero"/>
        <c:auto val="1"/>
        <c:lblAlgn val="ctr"/>
        <c:lblOffset val="100"/>
        <c:noMultiLvlLbl val="0"/>
      </c:catAx>
      <c:valAx>
        <c:axId val="966884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649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08A9-7376-44EA-9879-77A21712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1546-3709-4E5F-B63D-9AA6E991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897E-3413-425C-9DF9-388D5929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8477-E5AB-46E6-8E2D-6C30EC86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FF97-0C96-48EB-A108-6A4FC9F0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06E9-940B-4C9D-99E1-18D7B43B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8F50-E0A0-4837-89AB-004DAF6F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AA87-C292-417E-A810-E9284468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57E5-A7A9-4D6D-88DE-C1C56A88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C69E-A699-4EB2-B65B-1D60FFA1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BF7C-6ADB-49B9-9F28-46226F92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8F12-34FD-4773-9119-61AFA334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DCA8D-5C6D-4CDC-B861-44713E567C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