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43480"/>
        <c:axId val="44265251"/>
      </c:barChart>
      <c:catAx>
        <c:axId val="59143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65251"/>
        <c:crosses val="autoZero"/>
        <c:auto val="1"/>
        <c:lblAlgn val="ctr"/>
        <c:lblOffset val="100"/>
        <c:noMultiLvlLbl val="0"/>
      </c:catAx>
      <c:valAx>
        <c:axId val="44265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43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F13-A8DC-45FB-97FD-C54E86AC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13B-F7AD-4945-AB69-6D553F35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618-2E33-45E8-A8C4-ECA553BB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618-A47D-4A7B-AE6D-E7F03FE6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29E-CEDB-4248-B4CA-FB0C9F8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905-AF7D-484A-96A1-D47C7369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FC8-EAD1-463B-9FE5-7361FC2D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070-7932-4F37-ADC5-9A06FF04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66C-CF0F-4281-A1E9-BEED0B99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579-3023-4B2A-A832-61FAD8C2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77E-E6DE-4A63-A115-6CAA0D4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4D4-F466-4240-AD28-468355B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1715A-6B9D-4B04-B6BA-FE7C824662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