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038458"/>
        <c:axId val="6581224"/>
      </c:barChart>
      <c:catAx>
        <c:axId val="4003845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81224"/>
        <c:crosses val="autoZero"/>
        <c:auto val="1"/>
        <c:lblAlgn val="ctr"/>
        <c:lblOffset val="100"/>
        <c:noMultiLvlLbl val="0"/>
      </c:catAx>
      <c:valAx>
        <c:axId val="65812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03845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818A4-F597-4330-9E56-6C25AC88A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FE523-541D-4003-A667-EE957028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180D8-991A-4158-9C11-BF3302E5D4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5A09B-1BE5-49AB-B5C7-1E949100B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9043C-0684-456F-8459-8F932EC51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218BB-CFFA-4706-ABC3-2298BC71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26107-1EC3-485F-B63F-AEEAF6043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C6858-0204-4ED3-9F3A-CF0213856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116C-1A50-4BA9-B442-49DB14679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3D7D-AAFF-44F6-B466-550A2007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E896-2110-4E14-9012-650349B8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0344E-55E5-43F5-9471-212465EA0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BA7EB9-E840-44A7-B0C2-ECFFF16FDCA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