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458321"/>
        <c:axId val="82541777"/>
      </c:barChart>
      <c:catAx>
        <c:axId val="83458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41777"/>
        <c:crosses val="autoZero"/>
        <c:auto val="1"/>
        <c:lblAlgn val="ctr"/>
        <c:lblOffset val="100"/>
        <c:noMultiLvlLbl val="0"/>
      </c:catAx>
      <c:valAx>
        <c:axId val="825417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58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A7D-F23E-4EDE-BDFA-DBD101CC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B3D2-37CD-453D-B60E-0018A7F2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ED4-24E8-41EE-AD5D-DE46937A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A18-013F-430A-8AE7-B7DEF656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5B81-D09B-4958-9FFB-17E4AE73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18B-71FD-4A16-BE33-BABE5C9D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567-5870-464F-A09E-FB9F09DD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52E-05BF-4021-B359-DEC293A0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F94-46F9-474E-BA7C-772FF32A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CFC-6581-4A60-9CAE-409C6FDF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BEC9-35FC-4F8F-A210-A72C15C2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B90A-BB21-4F91-9018-90CFEA62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AF9D3-D609-4C19-A162-D58E4880A0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