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36351"/>
        <c:axId val="75249975"/>
      </c:barChart>
      <c:catAx>
        <c:axId val="52363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49975"/>
        <c:crosses val="autoZero"/>
        <c:auto val="1"/>
        <c:lblAlgn val="ctr"/>
        <c:lblOffset val="100"/>
        <c:noMultiLvlLbl val="0"/>
      </c:catAx>
      <c:valAx>
        <c:axId val="75249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63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4386-6699-4AE2-A9AA-8BF53728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292-FBF9-4217-88CB-3A6A64F2D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4C98-DD64-4105-B358-D2444B2D6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6233-6F00-453D-A63F-7EE2D326E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E86-2987-4FB4-8283-84EE7B8C4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08F-7A83-4CB9-84AB-9C8125B8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CBEF-1D51-4B00-8C6E-C7DC88BD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A9EC-069D-4C47-BF71-C970BA84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2C0-E273-4152-B2E0-D60F1A9D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D165-5162-4171-9858-88AE5046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FDB9-B4CB-4D81-8A29-96006B74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13A2-D1F9-4151-9CEB-B45768DC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1F92C5-61FE-4F70-8AA7-0C413AE454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