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89015"/>
        <c:axId val="98568533"/>
      </c:barChart>
      <c:catAx>
        <c:axId val="77389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68533"/>
        <c:crosses val="autoZero"/>
        <c:auto val="1"/>
        <c:lblAlgn val="ctr"/>
        <c:lblOffset val="100"/>
        <c:noMultiLvlLbl val="0"/>
      </c:catAx>
      <c:valAx>
        <c:axId val="98568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89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437-DF41-4948-A397-B511E959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4DD-33B1-42E8-BF15-D77232C8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77D-E549-4BA1-8F6D-46EE9E6A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FA0-7D3C-43B0-8B23-25CC3FA4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B93-10FE-4FF3-AD3A-0FEECFE3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5BC-9CC1-483F-B0DE-DD653ED6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E9B-7ED4-4BFD-BED7-EAF67EFD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6F6-5158-4E08-B1D4-98AECDA4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AE6-9683-40F7-985B-48FADE29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BF5-97AF-40B4-9BA7-4E0041D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5D7-3143-424E-AB19-FCF4EAA0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033-7F3C-4978-995E-2E19F609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980D3-FE5E-460A-BB21-DA1FF75D1D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