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52733"/>
        <c:axId val="74459732"/>
      </c:barChart>
      <c:catAx>
        <c:axId val="99752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59732"/>
        <c:crosses val="autoZero"/>
        <c:auto val="1"/>
        <c:lblAlgn val="ctr"/>
        <c:lblOffset val="100"/>
        <c:noMultiLvlLbl val="0"/>
      </c:catAx>
      <c:valAx>
        <c:axId val="74459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52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CD7-95F7-4921-9B7D-DD7858B4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AE5-F6AB-48D0-928A-089417AE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E7C-8177-4401-A261-8BDFC827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260-8689-4974-B9E6-840946F7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E8C-857A-4C59-9A43-6DED5E0E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B9D-DB5C-45BB-B207-8C990431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BFB-2876-43D9-B1D0-179234A0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0A5-725D-4507-B71E-0539CCB3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761-2872-49BF-A275-B222A417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172-FB1A-44C5-9292-DB149344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EC4-1797-4CF6-86AF-47C28D6F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FE9-CC9B-4C1E-A5B3-8C296DA0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24E86-BD75-4119-A922-DB95057657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