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43246"/>
        <c:axId val="83956762"/>
      </c:barChart>
      <c:catAx>
        <c:axId val="58543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56762"/>
        <c:crosses val="autoZero"/>
        <c:auto val="1"/>
        <c:lblAlgn val="ctr"/>
        <c:lblOffset val="100"/>
        <c:noMultiLvlLbl val="0"/>
      </c:catAx>
      <c:valAx>
        <c:axId val="83956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43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BC9-FECB-4725-BFBF-E4617D6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1F1-71D7-4A17-A87C-257BB6B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F4C-A4AD-403F-8CD2-1AF8DFC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DA0-BA8D-4748-9B34-24B7865F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23C-9707-44A6-BC57-4ACD43E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433-19D6-4E69-B88C-AEF3825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ACC-A957-4D71-844A-D00CCCA4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597-A06D-436D-BA69-49CAF47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C82-96D9-4D03-BA11-5D27A18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843-231D-4735-B13E-E51AC69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CA0-4078-480C-8C2A-A73C885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05E-7904-4156-989F-6FE4FAE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B830F-BF65-438B-AB5E-A8233C46DA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