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268381"/>
        <c:axId val="61249542"/>
      </c:barChart>
      <c:catAx>
        <c:axId val="72268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249542"/>
        <c:crosses val="autoZero"/>
        <c:auto val="1"/>
        <c:lblAlgn val="ctr"/>
        <c:lblOffset val="100"/>
        <c:noMultiLvlLbl val="0"/>
      </c:catAx>
      <c:valAx>
        <c:axId val="6124954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68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B5A7A-2034-47FD-89FB-006ADB716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89E21-E2F4-4FA2-9FF0-32D5F421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6818-61B7-4540-8AE7-F17804C79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9E7B-30A7-4393-86A2-103177F79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1FFA1-419E-49AB-B331-46AD711E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901A-F97C-43EB-8099-1E2C68E80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F56E-FDE4-4DEA-910E-68D704B44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8524-EAE5-4935-B94F-D31858B8C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2550-D4DA-40A2-825C-84B41032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32F8-1AE2-4460-8243-5CD0DBD3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92D6-9B78-4F71-B9B9-1E3DF41CB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BC88-362C-48F9-908F-111297F7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D5ADC0-63C0-4AD8-8DDB-4D3F32FE496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