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671357"/>
        <c:axId val="72524695"/>
      </c:barChart>
      <c:catAx>
        <c:axId val="876713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524695"/>
        <c:crosses val="autoZero"/>
        <c:auto val="1"/>
        <c:lblAlgn val="ctr"/>
        <c:lblOffset val="100"/>
        <c:noMultiLvlLbl val="0"/>
      </c:catAx>
      <c:valAx>
        <c:axId val="725246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713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05EE-7787-4F66-AC70-04332432C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D791-F4F0-4FAD-9287-7189A9D99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0C149-164E-4FAB-A583-59D8D2A5F2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FC59-B488-435F-BF02-97AD5CB3B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EF5B-84E2-45FB-AE22-1CEC8D4E7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4A97-8BC6-4429-A960-2928BFBDB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EF0E-2B30-4BA2-909D-A6363B4F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AA30-33F5-4765-A52D-E2ECA0F1D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B6CE4-0C47-4247-B5B7-B3664E956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393C1-4FCB-45ED-8A95-E19BE460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A8BF9-3D9C-4637-89F3-CB5726331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3AAB-0293-473F-B213-35649BCD7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1DD47A-A581-45A9-AE43-86B7DE1DCE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