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92743"/>
        <c:axId val="83330201"/>
      </c:barChart>
      <c:catAx>
        <c:axId val="55792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30201"/>
        <c:crosses val="autoZero"/>
        <c:auto val="1"/>
        <c:lblAlgn val="ctr"/>
        <c:lblOffset val="100"/>
        <c:noMultiLvlLbl val="0"/>
      </c:catAx>
      <c:valAx>
        <c:axId val="83330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92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857-FA01-4014-B153-FCA31532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773-F8AB-4855-8097-66A3BFA7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6BB-3614-43D3-9168-2B9ECE39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70D-3579-418E-A315-AABE4AB3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D0D1-3BA9-4DBB-9CB6-AB5BC51D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F8B-538E-43ED-B941-0AD5EBA0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6D5-D99A-46F7-BEAC-29C20191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E7B-9414-444A-B3E8-4C3075D7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06C7-856B-47CF-B7EA-AE1BBD77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F78-0340-49A1-996E-6FB56147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DB9-9900-4A4A-9F18-00FA817F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72D-F6CE-4B34-B3B0-7B5A5F92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77E3E-5E64-42FC-B09C-413329DE52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