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54182"/>
        <c:axId val="19231483"/>
      </c:barChart>
      <c:catAx>
        <c:axId val="617541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1483"/>
        <c:crosses val="autoZero"/>
        <c:auto val="1"/>
        <c:lblAlgn val="ctr"/>
        <c:lblOffset val="100"/>
        <c:noMultiLvlLbl val="0"/>
      </c:catAx>
      <c:valAx>
        <c:axId val="19231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541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9F5-44E6-401D-8A70-45DC3440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EEF-5C66-4917-8B71-0F7736AB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793-1DBC-4613-A2F6-146FFDC3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DF9-53C5-4554-A02A-D461357AB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638-F8DA-4440-9453-1997AA9A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F2B-DD8E-44D9-90BA-EEEE24DE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1C4-9B31-4902-9FEB-747A747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1CDE-065B-44FA-81A9-20F2ED5F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5CD-B9A7-48C5-9A33-5D95E464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F5B-2A78-4CED-8E83-6C184F3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B689-11D7-4434-B4C9-539DDB6E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1B4-B17F-41EB-B6F5-B45F1BB9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086B7-E8BB-4206-A92A-7289B528FE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