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007734"/>
        <c:axId val="67107691"/>
      </c:barChart>
      <c:catAx>
        <c:axId val="620077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107691"/>
        <c:crosses val="autoZero"/>
        <c:auto val="1"/>
        <c:lblAlgn val="ctr"/>
        <c:lblOffset val="100"/>
        <c:noMultiLvlLbl val="0"/>
      </c:catAx>
      <c:valAx>
        <c:axId val="671076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0077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387E-D70B-4817-A3AA-89A63150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45BA-D8B2-4741-8173-BD09C38F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071A-9650-4081-A42D-1458E5CF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0F2A-6810-4264-A807-469138967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28C1-A880-407E-8DA5-5362600E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B1E5-2E8E-41EB-A03F-BBA3C550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FB6E-C730-4648-BC55-2842FD32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866D-7A32-4424-A8F9-AD31138B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47BA-2A74-47E3-AD42-B78620B0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313B-941E-4DBC-8997-54AAE531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521B-36A7-4E3D-A923-B02A6301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907D-E30A-4112-9F38-006620C2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3B6AB-4127-44D8-B2BE-94FEA936AC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