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15298"/>
        <c:axId val="28489759"/>
      </c:barChart>
      <c:catAx>
        <c:axId val="70615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9759"/>
        <c:crosses val="autoZero"/>
        <c:auto val="1"/>
        <c:lblAlgn val="ctr"/>
        <c:lblOffset val="100"/>
        <c:noMultiLvlLbl val="0"/>
      </c:catAx>
      <c:valAx>
        <c:axId val="28489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15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A8A-FDA5-420E-8857-910E935F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E51-C51D-4B0E-B174-CC230CF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535-57E0-4731-8D96-D559C0D3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0E1-BE52-452F-90CA-2944F55C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963-58CE-4208-8AA1-BB7C6F85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CC2-FAD9-4398-AD4A-3864EF5B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B6E-E1D5-4C8B-9840-DA51E09B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DA1-4B5F-45FF-8CED-35635C62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6A3-B8A1-4AEE-82F0-207868D2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D7F-C283-422A-ABC7-6C9782E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0DE-EE05-48CD-AC43-0B23605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F61-2392-49BD-86E7-5F20C4A2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60A1A-41EE-4A43-A801-907DF8867F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