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50971"/>
        <c:axId val="406295"/>
      </c:barChart>
      <c:catAx>
        <c:axId val="41650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295"/>
        <c:crosses val="autoZero"/>
        <c:auto val="1"/>
        <c:lblAlgn val="ctr"/>
        <c:lblOffset val="100"/>
        <c:noMultiLvlLbl val="0"/>
      </c:catAx>
      <c:valAx>
        <c:axId val="406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50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7DB-4C69-4665-A779-D77B5D48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E4D-A445-4FE3-BC9B-B0DC44C8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35D-F2F2-4DE3-AD29-D98CC853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F44-2AF9-4816-80A8-768EC853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8C1-8A7C-41C3-A40B-5CA9FC37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C2E-D472-4848-9551-CB872DEA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6E3-FD59-4729-A86C-FA70E96C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735-1DDC-45FD-9D07-8DE8C0E4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A30-D9A1-481B-9924-6F649249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6CC-0C9C-4898-934D-8E3A0CB9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E81-5653-4FE7-B6E4-AC651D05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46B-AF69-4C7C-A055-9538564A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8B688-3EEE-4235-A56B-A3BC7E5D29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