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604098"/>
        <c:axId val="61439296"/>
      </c:barChart>
      <c:catAx>
        <c:axId val="94604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39296"/>
        <c:crosses val="autoZero"/>
        <c:auto val="1"/>
        <c:lblAlgn val="ctr"/>
        <c:lblOffset val="100"/>
        <c:noMultiLvlLbl val="0"/>
      </c:catAx>
      <c:valAx>
        <c:axId val="61439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04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72D-9B82-4A44-A8F0-FC0FF1EF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338F-4E24-487B-8455-39336F38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F44-E239-43B9-B812-EC6AA9E6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B37-B2EC-45F6-BEF9-CA6772BB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87C-9111-4A1A-977A-F726982D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6C6E-7A0B-4955-BDED-F9F9F426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470-4A75-4003-98EE-539BD91E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0B2-15F0-4667-8ADC-FE203995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ADC1-3939-463B-AEC9-3E47B029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F5D-BAE9-41F6-A155-EE50B26F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47AF-D57C-4971-B3F4-6320C371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348-CD78-49F8-B7A4-E3AF9206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DAD89-BF74-4BA0-992C-816821EA72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