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991629"/>
        <c:axId val="52353892"/>
      </c:barChart>
      <c:catAx>
        <c:axId val="479916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53892"/>
        <c:crosses val="autoZero"/>
        <c:auto val="1"/>
        <c:lblAlgn val="ctr"/>
        <c:lblOffset val="100"/>
        <c:noMultiLvlLbl val="0"/>
      </c:catAx>
      <c:valAx>
        <c:axId val="52353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916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66E-30C3-403B-8665-55A1541A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BCD-5506-4C4E-AF31-86A2313A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E9B2-BF27-4271-9578-19F1E912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E77-6B49-48CC-81C8-7B016502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3531-17BC-4922-B990-65714FE3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5BA2-4ED6-4576-AD38-91C89B43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5DF-B860-43A3-A05A-11BF498A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65A-2104-4FD4-899F-39A5B457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FE40-A935-4BBF-AF51-4BB3EDA8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23C-CFD3-4236-9C25-8ED3AF96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5CA-480E-425D-8C65-F61DEE21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665-5CC4-41A6-8D5F-ECECD5F6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B550A-0661-486E-9BB4-0ABE27787F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