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91725"/>
        <c:axId val="86614710"/>
      </c:barChart>
      <c:catAx>
        <c:axId val="21917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614710"/>
        <c:crosses val="autoZero"/>
        <c:auto val="1"/>
        <c:lblAlgn val="ctr"/>
        <c:lblOffset val="100"/>
        <c:noMultiLvlLbl val="0"/>
      </c:catAx>
      <c:valAx>
        <c:axId val="866147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917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2184-F25C-4297-AE4C-564869268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9DE5-7CD5-4EF8-A889-6FD1143C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499C-61C2-429B-9FC9-8DFEE9D4C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533F-CF52-4936-B9A9-56ACA1C21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C1AD-E834-4A5C-9B8C-5DBC7B6D9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9838-DF6C-4A8E-A4FC-3FCF275F4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5D11-0922-4E44-8E02-C89A8A3E6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C056-9537-4B2D-9C06-2BF0F2027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45C8-FFCF-4BB4-AEC3-26D2336FF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893B-C6FE-4301-89B4-D0A0AEC1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9888-E2DA-4A9C-8AE3-E40AF3E2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8902-6D05-47AA-8209-C5F6D8D1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FA21CE-E465-4D70-81FA-06CBE57CC58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