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9266"/>
        <c:axId val="82969262"/>
      </c:barChart>
      <c:catAx>
        <c:axId val="24379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69262"/>
        <c:crosses val="autoZero"/>
        <c:auto val="1"/>
        <c:lblAlgn val="ctr"/>
        <c:lblOffset val="100"/>
        <c:noMultiLvlLbl val="0"/>
      </c:catAx>
      <c:valAx>
        <c:axId val="82969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9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FF8-C48F-416E-A497-9591EA3A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19C-F913-4265-A017-A21BDF2C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223-FFA7-48B4-85D5-0954DA5A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4F6-B289-4EBF-9F8B-11E2651B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68A-4654-460A-992C-BFCA05B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966-346B-433D-B2FD-B1D2270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ADA-4298-4057-B1A6-B0CC9E17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7B3-4851-4D7E-BCFD-1B575B58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8CB-DCB9-4ADD-80FE-599EBEC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E79-D910-4322-9660-6D901C0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712-A419-4823-98AF-A4B4D259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842-A398-4D8B-93C9-DB85D22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2DC51-8B0B-4E16-8C4E-DB9931BB8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