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1549066"/>
        <c:axId val="11181893"/>
      </c:barChart>
      <c:catAx>
        <c:axId val="7154906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181893"/>
        <c:crosses val="autoZero"/>
        <c:auto val="1"/>
        <c:lblAlgn val="ctr"/>
        <c:lblOffset val="100"/>
        <c:noMultiLvlLbl val="0"/>
      </c:catAx>
      <c:valAx>
        <c:axId val="1118189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54906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FDC25-DB6F-4042-A1AE-026BE07C2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A2449-ADD3-4625-8A45-3E19B2774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FE7DD-B0C5-457B-A680-3AB208CBD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58085-3F2A-4CE0-92A9-83217ACDF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32084-358C-4C86-99C5-CA85F61CA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C02EE-99A6-49E9-841B-FDCFE9B79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388AE-30A3-4142-B3E9-D6913DDC0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29570-7B31-49BE-AB2C-4E1AE3229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1EBB5-FC5C-4563-A258-0676C3262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281D8-35C1-4536-A049-E39BA33B1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5CD11-23C5-4209-A584-C5FF5B614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97B28-8965-448B-AB03-0E3F5415E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7E8122-EAA7-4B9F-8A9D-95A0E0C4251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