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91704"/>
        <c:axId val="19842950"/>
      </c:barChart>
      <c:catAx>
        <c:axId val="45791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2950"/>
        <c:crosses val="autoZero"/>
        <c:auto val="1"/>
        <c:lblAlgn val="ctr"/>
        <c:lblOffset val="100"/>
        <c:noMultiLvlLbl val="0"/>
      </c:catAx>
      <c:valAx>
        <c:axId val="19842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91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B4E-9CD7-4BFA-B013-726018F8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11A-2404-40A7-8C80-D5C8B192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344-250D-406B-9E34-E3EFEC4E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A7E-37CF-422D-AC3E-83C353BA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9F3-40E6-4614-8529-2EE8F94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C1E-CD09-489F-93A2-75A6ABF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954-A788-4CFD-AE93-9FD1B3A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748-8AEF-42CB-8916-B4372F1C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A8B-F62D-458A-A058-6382643D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6C3-3EA9-4DFB-8F43-27172E5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515-077F-499E-AAFE-39ED513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FCB-8027-44EB-8FF2-6B76780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7661A-01CF-480A-870C-4D6EE2CA6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