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99297"/>
        <c:axId val="93664651"/>
      </c:barChart>
      <c:catAx>
        <c:axId val="61699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64651"/>
        <c:crosses val="autoZero"/>
        <c:auto val="1"/>
        <c:lblAlgn val="ctr"/>
        <c:lblOffset val="100"/>
        <c:noMultiLvlLbl val="0"/>
      </c:catAx>
      <c:valAx>
        <c:axId val="93664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99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39B-38EA-4D62-B1CF-D557E0E9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1213-FC23-450F-A4DD-05E26359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CD05-0B66-4DCB-A22A-AA3CA958D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0E73-330D-4892-B6D2-DD7BDB8C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FC34-D952-4FDE-B508-115684AE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4DF4-3155-4932-B670-FAD0DE81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113-3129-4915-B7EA-59A367F8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8E9-30B0-4427-A6C1-4E4E3A54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F4D-FBD0-4DAE-B360-9BEBE9FE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A5A-0B4D-49D2-BA96-E7E2C2EE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25B-6413-4CEA-B801-01805DF0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690D-E4F1-447F-8E57-69566FBC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5BEA4-1BCE-4FD4-9698-CAF4AA4089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