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80087"/>
        <c:axId val="25905899"/>
      </c:barChart>
      <c:catAx>
        <c:axId val="758800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05899"/>
        <c:crosses val="autoZero"/>
        <c:auto val="1"/>
        <c:lblAlgn val="ctr"/>
        <c:lblOffset val="100"/>
        <c:noMultiLvlLbl val="0"/>
      </c:catAx>
      <c:valAx>
        <c:axId val="259058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800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9F34-D353-46F7-B73C-33C54C9F4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AB6A-105F-4BA8-86C7-A03C53E4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0CF-DD87-43FB-ACC6-7598FFAF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5E7-C8DA-4C89-981E-965823566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59A-8DA4-4449-BB5C-81CADE2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8DB9-DECE-40F5-BEBC-8F8BFE7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E695-631D-4E21-ABD6-06916C8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997-A1C0-4B76-AF78-8934E97D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01F-3AF3-4C31-8A84-35B6B9EDB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496-53E8-4474-B2E3-806A1BAA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96B3-7EF3-4757-9E42-B7D35371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CDC6-BEC1-4104-A8B4-6D79DB87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C9437-C6DF-4C64-AE3C-20BA80FAF9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