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25816"/>
        <c:axId val="14571817"/>
      </c:barChart>
      <c:catAx>
        <c:axId val="41525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71817"/>
        <c:crosses val="autoZero"/>
        <c:auto val="1"/>
        <c:lblAlgn val="ctr"/>
        <c:lblOffset val="100"/>
        <c:noMultiLvlLbl val="0"/>
      </c:catAx>
      <c:valAx>
        <c:axId val="14571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25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F0A-FB82-427B-AF67-168060AA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68A-C5EB-4620-B5FE-B0773D68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9EC-47A6-4E45-B366-A35514CC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4E1-C855-4C75-B12D-29B9B8E4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A39-B01B-4AC0-BE39-58F7FF92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D7F-0A87-4A20-94BA-6A576F4F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ABF-9888-4D81-9180-A52F5648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9F9-B62D-4CE3-B00A-CC9FD2A0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65D-B9D4-43E8-BDB3-CB8A0660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631-9555-4723-A474-73150B95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4BD-E43B-4E49-B711-8E856797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4C5-C49F-464C-A718-0826A775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EA218-B682-4ACF-B4F5-4085FA6F1C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