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71297"/>
        <c:axId val="70455802"/>
      </c:barChart>
      <c:catAx>
        <c:axId val="90771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55802"/>
        <c:crosses val="autoZero"/>
        <c:auto val="1"/>
        <c:lblAlgn val="ctr"/>
        <c:lblOffset val="100"/>
        <c:noMultiLvlLbl val="0"/>
      </c:catAx>
      <c:valAx>
        <c:axId val="7045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71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A37-2972-472B-A2C9-6A1832CA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119-B94D-463A-ABBE-DA0D9969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474-F963-480B-A044-1B92BF6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4AF-174B-4B40-9847-C6F20F80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39A-0EE0-4889-8F9F-7ED1ED7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8C8-C199-4409-896B-50A160C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7D9-97B5-48A4-B019-2CE9D5CD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43E-804D-4F04-BA14-A387280D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A1D-5DAE-4CAC-8BFE-E814F2B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9AB-E383-4196-937A-058D07D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142-13EF-4E0F-8303-8FE2865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533-C57D-46D7-95F4-45920424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1658-70F4-4161-92CC-B7041F37F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