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8098"/>
        <c:axId val="93584905"/>
      </c:barChart>
      <c:catAx>
        <c:axId val="1088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84905"/>
        <c:crosses val="autoZero"/>
        <c:auto val="1"/>
        <c:lblAlgn val="ctr"/>
        <c:lblOffset val="100"/>
        <c:noMultiLvlLbl val="0"/>
      </c:catAx>
      <c:valAx>
        <c:axId val="93584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8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DC9-05BE-4FB5-BD15-1304398C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1767-64E5-43AF-A223-3DAE9A5B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43D7-66F6-462A-A3BC-83071CF68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E92-8D05-4A79-83B8-ED27B142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9D8-1F04-4319-9E91-0931E740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41F-8F55-48B6-98EF-2D50100E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C33-7B0F-48BC-B3AC-148C35089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79A0-B943-4A06-A2EF-8473BFDD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2393-1A14-4A72-A9E5-718F2040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A8AB-E8CB-4840-9375-FAE8E824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E4A2-72BE-4BAF-9B25-169AEF87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BFCE-8B41-4EE2-9B68-9C9A6A3F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A4D47-6777-4528-B2B3-9788DE7373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