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41169"/>
        <c:axId val="82068379"/>
      </c:barChart>
      <c:catAx>
        <c:axId val="94541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8379"/>
        <c:crosses val="autoZero"/>
        <c:auto val="1"/>
        <c:lblAlgn val="ctr"/>
        <c:lblOffset val="100"/>
        <c:noMultiLvlLbl val="0"/>
      </c:catAx>
      <c:valAx>
        <c:axId val="82068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1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5CE-5677-49D8-AD5D-4154BC98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927-E3B8-4CAB-9B42-DFF0C5E8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E7D-F800-4E91-B7A5-C9D49D27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99F-4B47-4B81-A78C-C4B96075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CE0-4244-4F63-A544-1B2376E3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D28-2063-441D-B0CD-B8E39E4C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85D-7603-4EEB-99AC-1BAE028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B70-C5A7-4E45-98F0-E5AFC448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FA29-6D72-4CAF-AFF4-A80CAFB4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254-15C4-49D9-AC7D-8EA892D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F3F-C2F1-4D54-96C1-033FC05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A9F-6152-46EF-8E04-3DFE982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8AE47-C815-4E13-9FB4-B497D3D4DA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