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81689"/>
        <c:axId val="11740074"/>
      </c:barChart>
      <c:catAx>
        <c:axId val="52481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40074"/>
        <c:crosses val="autoZero"/>
        <c:auto val="1"/>
        <c:lblAlgn val="ctr"/>
        <c:lblOffset val="100"/>
        <c:noMultiLvlLbl val="0"/>
      </c:catAx>
      <c:valAx>
        <c:axId val="11740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81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111-7038-451E-A6A4-030D9851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660-BFCA-413F-AD4F-C2A69375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76E-A478-41CB-827D-E10C8BC4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693-1C0D-45C3-9FA6-EA0E846D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861-AB55-466A-9012-9EB3847A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81F-C95D-4459-849A-BAF7DD08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03F-402A-4D86-87E8-070B4AD3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349-FE19-4E32-BF9D-1046725A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32F-8F12-4B27-A573-CE571DA6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7B3-50EF-41EE-9682-094A700C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D9A-16CD-4A47-9638-44060BA7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7DF-3D56-4AC3-B04D-F765E962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B9490-A1D9-413A-A7FA-D31C22F6DA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