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82361"/>
        <c:axId val="97322379"/>
      </c:barChart>
      <c:catAx>
        <c:axId val="81682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322379"/>
        <c:crosses val="autoZero"/>
        <c:auto val="1"/>
        <c:lblAlgn val="ctr"/>
        <c:lblOffset val="100"/>
        <c:noMultiLvlLbl val="0"/>
      </c:catAx>
      <c:valAx>
        <c:axId val="97322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82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0B8-2538-4854-B8CD-0F738002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1FD-11BE-474F-9EE1-03960ACE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4E0-83B8-4D67-BC44-716560EF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641-3216-42A2-943D-DD7843D1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7CD-55C1-4A19-87AF-DF6D27A4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2DC1-7638-4B98-9462-30C11A44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0F6-3284-415A-91A7-FC76E541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4DD4-9F5E-4875-88F6-63A8A0D8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607-4D3B-4E2B-BEE2-FF8DFD6C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41A-714B-4FC7-8DD3-5FE1B4C7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36E-CD68-40D5-9A79-EBD9EE04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FA6-42ED-419D-AF8E-C462F255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41C08-0717-42E5-BBCB-26F3C1668E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