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39172"/>
        <c:axId val="82598200"/>
      </c:barChart>
      <c:catAx>
        <c:axId val="88139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98200"/>
        <c:crosses val="autoZero"/>
        <c:auto val="1"/>
        <c:lblAlgn val="ctr"/>
        <c:lblOffset val="100"/>
        <c:noMultiLvlLbl val="0"/>
      </c:catAx>
      <c:valAx>
        <c:axId val="82598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39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713-7E9C-4691-86BF-CB393113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43C-0AD9-45A4-A60A-7966E44D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1A8-C124-470F-AD43-F43BE734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C8E-C4BF-48F7-885B-7AF41201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A84-5F7F-45BC-9613-37F8252A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72B-4F41-4B9B-A906-95C0BCA1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F36-6CFB-4F39-B3D4-5EFF163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199-728D-41B2-8E07-226C4838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AA8-85B1-4689-B23E-10640DC1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A98-0963-48F6-B069-20C15FB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097-E18B-4853-B862-0C06C6D9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3EF-9D1B-4407-BA43-AFC1FB0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B502D-62B6-4B56-A68B-081D4DDFF1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