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276680"/>
        <c:axId val="24924359"/>
      </c:barChart>
      <c:catAx>
        <c:axId val="462766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924359"/>
        <c:crosses val="autoZero"/>
        <c:auto val="1"/>
        <c:lblAlgn val="ctr"/>
        <c:lblOffset val="100"/>
        <c:noMultiLvlLbl val="0"/>
      </c:catAx>
      <c:valAx>
        <c:axId val="249243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2766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2AD7-6934-4551-8EB8-E7F868EC9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C582-CEF1-487E-AA27-33683823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23CD-7A6D-445E-9C6C-BF3AD5BB6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80D-5896-44FD-A0E4-C3F09D6E0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F3FA3-72E1-401B-BD53-A5E9284A6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60BD-F5F2-4B49-85FB-C37AF9A33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54AB-6336-4787-9431-EA60DDC6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403-1A75-4226-8267-65F59A05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470-55CA-4A6C-8BCF-1631E4EBD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74D2-E4B3-4081-87C0-B65F90FB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F5AD-0280-4B15-BA5A-8C04B35D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9DC3-C0BC-44F0-899D-94D771B5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41D84-E3D3-4A32-999F-117CAC2C33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