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601929"/>
        <c:axId val="35252605"/>
      </c:barChart>
      <c:catAx>
        <c:axId val="156019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52605"/>
        <c:crosses val="autoZero"/>
        <c:auto val="1"/>
        <c:lblAlgn val="ctr"/>
        <c:lblOffset val="100"/>
        <c:noMultiLvlLbl val="0"/>
      </c:catAx>
      <c:valAx>
        <c:axId val="352526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019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B7C6-99FD-4F5C-A53E-8863D22CE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53C0-B430-4BE3-9505-71BADCE6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D566-9B0F-43B5-81F8-4479E95F2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1885-D7E9-4441-BAA5-47AA39B10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3837-001D-46B3-B589-947A14FD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4643-037B-4361-BA0B-FA8E019B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AC61-2BBB-4859-A548-7BBC477C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D5CE-0152-45CD-949A-4EFE2237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4526-BF87-4E21-9891-E443FCC7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24C3-2F21-4734-A188-16B2D88C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10E4-8AFF-4CDE-A742-01C8860D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87CE-49E9-4F40-AC31-1AFBE0CB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37E77-25FF-40A9-B6D9-532A1180E06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