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33779"/>
        <c:axId val="28179687"/>
      </c:barChart>
      <c:catAx>
        <c:axId val="83337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179687"/>
        <c:crosses val="autoZero"/>
        <c:auto val="1"/>
        <c:lblAlgn val="ctr"/>
        <c:lblOffset val="100"/>
        <c:noMultiLvlLbl val="0"/>
      </c:catAx>
      <c:valAx>
        <c:axId val="281796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337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4D7A-8F3C-4BA5-B1A2-CC24EE779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E107-E3A9-49D5-A99C-5A1D7E04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4A1B-D228-4215-A745-E56112CBB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75BB-F678-43EA-A54F-BB02527A7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DAFC-9C0F-4171-879E-C0515FE5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1BDC-9025-48E0-A85A-F4442374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6797-A30D-4E86-AF53-9B22F0DE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B633-DBCC-49C6-B706-E98982B6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8F15-C013-44CF-800C-D15F0784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A1FE-98EB-4CCA-8627-A05F2361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D34C-1015-4466-84F6-E91497AC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3332-8DF1-4C5E-AABE-4B3CDA31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E1D35F-B871-448B-9012-7488B68D14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