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87463"/>
        <c:axId val="22199867"/>
      </c:barChart>
      <c:catAx>
        <c:axId val="60887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99867"/>
        <c:crosses val="autoZero"/>
        <c:auto val="1"/>
        <c:lblAlgn val="ctr"/>
        <c:lblOffset val="100"/>
        <c:noMultiLvlLbl val="0"/>
      </c:catAx>
      <c:valAx>
        <c:axId val="22199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87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880A-8DF2-4F2D-8F10-1A8C10EC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F88-D06D-43A5-9852-A49A9581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BC3-7B23-44C7-B802-D314B9CF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A22-4E44-44E8-AEC1-0758F8DC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CA21-4B72-4190-9564-630E14DA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623-AAC1-4242-9F7D-45ECDB73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767-9DA9-465C-91FC-E815F6C0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FB0-3325-44EC-BDC1-3AEDED86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6EA-40BE-44D7-B3A4-52C0185E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27A-9E79-449B-86D2-CFEB339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B5D-B8D9-4CD2-89A7-0E4073DD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BCE-BA72-40E8-9C58-13EE262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04519-0E1C-45A4-ADEC-87876CDB23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