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72722"/>
        <c:axId val="50626299"/>
      </c:barChart>
      <c:catAx>
        <c:axId val="93072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6299"/>
        <c:crosses val="autoZero"/>
        <c:auto val="1"/>
        <c:lblAlgn val="ctr"/>
        <c:lblOffset val="100"/>
        <c:noMultiLvlLbl val="0"/>
      </c:catAx>
      <c:valAx>
        <c:axId val="50626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72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F75-3EEF-4AAA-8885-3E7CEB3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130-AE6D-4188-8835-C1CE6B93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894-D9B4-43DD-8AE5-FB17A6E0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A70-9932-492A-8B9E-C2D6EFE5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03F-5EC3-406A-9EB1-B8B72EF8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502-2E08-4D94-ADE8-DA6C420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38F-45EA-44AA-86FD-4544972B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5BA-63C4-4A39-B86F-D46900E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FBF-CDB3-4A51-B154-5CC85D1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83D-F4F2-400A-9D07-85533AA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29D-73C7-4900-8B49-327121A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417-13F9-437D-A010-60625D8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0478-C57C-4ABF-B338-9C6BF9E35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