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757574"/>
        <c:axId val="215145"/>
      </c:barChart>
      <c:catAx>
        <c:axId val="2575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145"/>
        <c:crosses val="autoZero"/>
        <c:auto val="1"/>
        <c:lblAlgn val="ctr"/>
        <c:lblOffset val="100"/>
        <c:noMultiLvlLbl val="0"/>
      </c:catAx>
      <c:valAx>
        <c:axId val="215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75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639-D8BB-4B8D-A43E-CA0C27C9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EE2-B5C9-48A7-8273-CD5B2ABB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B6C-F7DC-4A05-B72F-0727041FE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11C7-8485-4C24-9742-1CCA7E9F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C7F-6138-4462-AB23-305EB017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C04-9BAE-4CEE-B5BC-C82D921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2BA-5EFE-44DF-BED5-9888B814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876-1168-48AF-975B-39A41F4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8E80-B63B-4FC2-AD68-EE7021D6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7BD4-08AE-45DB-B2D4-AE29C81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D342-3747-47DA-ACD0-C2CBA4EB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02E-9A85-4952-BDAD-7E2C432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FAE8D-B226-4902-BE51-3A81C1C426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