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21083"/>
        <c:axId val="46318185"/>
      </c:barChart>
      <c:catAx>
        <c:axId val="55521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18185"/>
        <c:crosses val="autoZero"/>
        <c:auto val="1"/>
        <c:lblAlgn val="ctr"/>
        <c:lblOffset val="100"/>
        <c:noMultiLvlLbl val="0"/>
      </c:catAx>
      <c:valAx>
        <c:axId val="46318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21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339-E339-4077-ABEC-FBBDDD50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0C1-89A4-4C8E-91F5-F3E35627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3F7-02B5-45FF-BB06-3888653C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49D-0574-4FA9-B444-56D98491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DD4-A627-48D6-AC5C-C6C2B4DE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515-DE51-4304-B323-E80BC8FA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1C6-4AEF-4E19-A78F-65E0347E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C2F-D8C1-43E1-9ECC-0F2A7022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CAD-BF61-46EB-9E46-CC2C58FA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339-AEC8-4645-88CE-293D94B1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A39-D07C-41DC-91DD-2A55939D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62BA-F1D9-4435-84E1-C4D20806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8352A-015B-4877-9B9F-69F8093220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