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03500"/>
        <c:axId val="86961743"/>
      </c:barChart>
      <c:catAx>
        <c:axId val="959035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61743"/>
        <c:crosses val="autoZero"/>
        <c:auto val="1"/>
        <c:lblAlgn val="ctr"/>
        <c:lblOffset val="100"/>
        <c:noMultiLvlLbl val="0"/>
      </c:catAx>
      <c:valAx>
        <c:axId val="869617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035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AE95-319E-4533-B173-9832159A7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AB55-249F-4757-9419-B9A62E9D0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C4FF-4890-481C-AC21-11B9E309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B798-7A58-4BD1-A97E-6D842493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3E54-AAA5-44D7-AAD4-A89BE62C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D0C-E045-434D-BB6C-BDE282DC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717-C6B2-46E8-A342-EF397A749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C94D-48B6-4BBE-9C69-3A529733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BC5-D45C-4383-9F1E-074F9117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2C5B-1DF8-48E4-8D52-6C95D673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0D3-60F0-4431-A90C-5885909D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246-477F-46CF-ABA1-EFEE6C5A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0A42E-C97A-480D-AE57-1FF86B3730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