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9502"/>
        <c:axId val="25409194"/>
      </c:barChart>
      <c:catAx>
        <c:axId val="6429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09194"/>
        <c:crosses val="autoZero"/>
        <c:auto val="1"/>
        <c:lblAlgn val="ctr"/>
        <c:lblOffset val="100"/>
        <c:noMultiLvlLbl val="0"/>
      </c:catAx>
      <c:valAx>
        <c:axId val="25409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9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F0C-4415-4A9D-887F-3233C300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D9D-FA0A-4473-80E8-C527FA2A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0D4-7CDC-4D99-B4EF-EA56217F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E29-A264-48CB-BC29-3B34D804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5D5-CC3E-4DF0-84B3-801A5D23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237-5EF8-4F5D-8092-1CB52544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5F9-D91F-417F-9AF8-40791226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F46-7287-483D-A2FC-97BDB2D9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9D98-395C-43F4-9D03-6B076DE1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A0D-83CD-49D6-AA0B-7DD8F644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1FF-20C5-40FC-AB13-8658151B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52F-BB00-4DA5-B733-05198638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57B17-9B97-4549-B9A8-252FC33904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