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09217"/>
        <c:axId val="31870843"/>
      </c:barChart>
      <c:catAx>
        <c:axId val="68109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70843"/>
        <c:crosses val="autoZero"/>
        <c:auto val="1"/>
        <c:lblAlgn val="ctr"/>
        <c:lblOffset val="100"/>
        <c:noMultiLvlLbl val="0"/>
      </c:catAx>
      <c:valAx>
        <c:axId val="31870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09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A31-CE27-40BB-A91F-98717D6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F8C-5FD8-45FB-BDB7-0A24DBA4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BC2-D130-4BEC-94F3-9E6E6D1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412-1EB1-4F38-B42A-3F89CE56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E2B-15B6-4E76-8F54-6EE792A1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329-E4A4-451C-8D2B-6D050CC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4A6-5BB8-4477-8ABC-FB481E9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758-F619-4F77-874A-DF35B3C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3B4-A6D9-49FF-BEAB-115E5795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65B-E5BD-4632-BB0C-E889588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607-51E5-44BA-9D01-7E36BC9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871-C6A7-4F99-81D3-CACC19B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F7429-C9D8-4567-AF31-E1F4E7E2A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