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403810"/>
        <c:axId val="89676908"/>
      </c:barChart>
      <c:catAx>
        <c:axId val="624038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676908"/>
        <c:crosses val="autoZero"/>
        <c:auto val="1"/>
        <c:lblAlgn val="ctr"/>
        <c:lblOffset val="100"/>
        <c:noMultiLvlLbl val="0"/>
      </c:catAx>
      <c:valAx>
        <c:axId val="8967690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4038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D13-50E3-4263-9155-F9C8684E0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368D-41DE-4769-AC1E-2909B53A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33E9D-4D92-490E-84B9-BA621DC6F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B46C-0499-4668-9694-455B00C77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7037-8506-4FF6-8BC5-7197D6EF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6A0F-990F-41D2-B983-3DC7CBEA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350F-B6B6-4005-97AB-03EA3E744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4E3F-C246-4577-A6B7-8C5CE007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923-6922-464E-984E-03CE0CEF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4690-DBAE-4D8E-B3A4-CEC94436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5881-3E4B-464C-B611-6D59F349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723-5AC7-4045-BCC6-35D5066F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14E696-811A-4297-B690-7D32D02BF5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