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64579"/>
        <c:axId val="79458381"/>
      </c:barChart>
      <c:catAx>
        <c:axId val="13645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458381"/>
        <c:crosses val="autoZero"/>
        <c:auto val="1"/>
        <c:lblAlgn val="ctr"/>
        <c:lblOffset val="100"/>
        <c:noMultiLvlLbl val="0"/>
      </c:catAx>
      <c:valAx>
        <c:axId val="794583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645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F78E-088A-4E3C-A72A-B3EDB187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54A4-7302-4333-ADFB-3127C54B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F83E-112C-4105-B629-6D406C9C5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45A-795B-4DE9-B9F7-8FF174B8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0A7-5FCC-4FC2-86B3-BF3C0AC0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A48A-214E-4135-B59F-D742CAF0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9546-E24E-4C20-A5B5-7F2EBE69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1FBE-21E5-441F-A6F7-65B01C80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04C5-5A30-4FA9-9A62-7F9C8368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5C3-D541-457B-B4C1-0D7165B8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57AC-94F9-4DA2-AEDD-50AEC181D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DDE-EFD2-4FBA-A321-98374D99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5EA111-1C42-4CCA-891F-7958F0EF43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