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44944"/>
        <c:axId val="89260452"/>
      </c:barChart>
      <c:catAx>
        <c:axId val="46944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60452"/>
        <c:crosses val="autoZero"/>
        <c:auto val="1"/>
        <c:lblAlgn val="ctr"/>
        <c:lblOffset val="100"/>
        <c:noMultiLvlLbl val="0"/>
      </c:catAx>
      <c:valAx>
        <c:axId val="89260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44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9EE-5A09-4A4B-8433-630B5CE1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86A-A943-4CEB-A2D6-60CD0FFB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53F-03A1-42F2-B7B7-E8C5654E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AE8-8DFF-4804-8FBA-6F003454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A94-9F46-4EB9-ABFB-0370EAC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340-2CD3-4BAF-B522-22C8A07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204-32FB-4A31-BAF7-E617B384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454-F37C-4B0A-B75A-30DD4615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C88-30B7-41A8-81B3-A12E8714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1AB-85C5-4224-81F2-9746E21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830-C266-494A-9D08-90E2AC8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CA9-BA3F-47AD-92F7-AC9BA62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8E1FC-EB55-4792-90EF-87C74F2DF7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